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83F2-BE12-4D95-B4B8-D335D8B68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9CAA-FEFA-4DCC-BEA0-FE439116D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8070-1706-4A44-9849-2C76E4E4B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0F8B-73A5-4940-8301-1A755ECE9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06621-1680-4C65-925E-2B872E6EF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72D91-AB78-4386-BF51-977983844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4A7CF-E639-4EF2-AD53-F56761035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C600C-1649-4D91-BC2D-308D90507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A7B6A-04A6-4F2D-8ECF-36ABF9520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4E6E7-9D17-4575-AC19-60853926E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081CD-7F02-469A-8CDA-048017ED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6DF7-C0FE-47FF-AD6D-DD0E51B50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73E5E-984B-4FBD-84A5-0DB832B8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9DFB2-DD13-44EE-97C1-03CE63AF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D78A7-236E-4712-A28E-0771FA3EF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408DB-E9E3-4AA2-BE17-BB29C754A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358AE-0CBB-47A0-A8C1-BE5DF2120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605B9-05E1-4042-954D-DBC127D7A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953ED-7FA7-493F-9650-955F569F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6B278-F6C4-43E0-8599-20E0AB4ED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06841-252D-423C-9D99-AAB59E606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CF8E5-8BB8-4F6E-B7F3-FF00F5351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2640-3BB4-41D2-AB6D-B51510033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946DA-63BF-48C1-9986-B4292A7D8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CDE10-6FD6-41A0-8AC6-E17F0983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755EC-626D-4CD6-AE6B-D6B52787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3A186-228F-4972-8A94-F3BCA360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9BBA4-3728-486F-ABCA-1CA03608F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FC787-EA22-40F2-961F-C4DA27D68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4768B-2ACA-49CE-9193-61BFC3498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BBAC3-21C4-41D8-A7E9-9CA8C8844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6D0FC-7092-4536-BF73-5857FF864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A22AA-3591-4B41-B5FD-B486A3FBE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9A9D-8BBA-4683-BD65-43CCFE653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B68AA-32B5-4597-A3E0-240D5C694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F2D9E-1FB6-4AC8-B270-90657928E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A0171-BA3E-4E50-9435-2A91D94AE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86BC1-5787-44D9-B449-5FF91942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91B35-0516-4B9B-9B86-CCAAC168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D1241-67A0-47EB-83D9-0F5ACC3A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DABF7-ABD5-4082-B5D8-E3784B6D8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F914B-B0D3-4C14-83CD-0D20D0E98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6C5C7-EEB5-4817-9E53-C76DC77EB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8597-2B47-4EB3-944D-AE22AA4D4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244B-038B-47B3-9B14-26B3900FB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2968-8C10-4DAD-939A-F557C9DF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AF13-9474-4EE5-8AD3-E0D03812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B1AF-26D7-4E97-9CA1-7D9762E9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3FBEB-A454-42E6-8C66-F213BCD40D9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7BEE7-5B21-4A17-AAE8-E1D43F5F077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2A3CD-E65E-4062-BF2C-F037BB70B34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14FE9-4574-40F7-BEF9-3519ED0CFD9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701640"/>
            <a:ext cx="8547120" cy="25592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3842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презентац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ученицы 6 класса «В»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Жук Алё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6" descr="1253143630"/>
          <p:cNvPicPr/>
          <p:nvPr/>
        </p:nvPicPr>
        <p:blipFill>
          <a:blip r:embed="rId2"/>
          <a:srcRect l="0" t="20816" r="4989" b="2026"/>
          <a:stretch/>
        </p:blipFill>
        <p:spPr>
          <a:xfrm>
            <a:off x="214200" y="1928880"/>
            <a:ext cx="4357800" cy="4700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-360" y="404640"/>
            <a:ext cx="5435640" cy="64533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лександр Иванович Куприн родился в городе Наровчат Пензенской губернии в небогатой чиновничьей семье. Детство и юность Куприна прошла в Москве. Тринадцать лет детства и юности Александр Иванович провёл в закрытых учебных заведениях. После тяжких лет казарменной жизни скитался по России, был и репортёром, и грузчиком и управляющим на стройке, землемером, работал на литейном заводе, выступал на сцене, изучал зубоврачебное дело, был журналисто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2" descr="C:\Users\Public\Pictures\Sample Pictures\Batkin1.jpg"/>
          <p:cNvPicPr/>
          <p:nvPr/>
        </p:nvPicPr>
        <p:blipFill>
          <a:blip r:embed="rId1"/>
          <a:stretch/>
        </p:blipFill>
        <p:spPr>
          <a:xfrm>
            <a:off x="5327640" y="244440"/>
            <a:ext cx="3852720" cy="550404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7T18:54:52Z</dcterms:created>
  <dc:creator>Алёна</dc:creator>
  <dc:description/>
  <dc:language>en-US</dc:language>
  <cp:lastModifiedBy>Пользователь Windows</cp:lastModifiedBy>
  <dcterms:modified xsi:type="dcterms:W3CDTF">2014-02-12T10:38:52Z</dcterms:modified>
  <cp:revision>14</cp:revision>
  <dc:subject/>
  <dc:title>Александр Иванович Куприн</dc:title>
</cp:coreProperties>
</file>